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F2E-F44A-40B9-8CF9-8703C6FE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3EF-9EF4-4F30-818D-48462B4F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C20-5DAC-4D01-B99A-2180F8ED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B3F-A578-4E76-93F3-0BD745E1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1F73-E960-4A30-B60F-0AEAC2E1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4EAE-9B31-4A30-AD19-406D80E9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8BD2-2BAA-43E8-9809-9275B0E1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D257-C6E8-4C73-ACA4-300E7EB8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8991-E112-482C-A542-37E88D84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5A4F-B58C-4EFE-A4FE-C1A44779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4E6B-C24D-4C1D-A58B-CACF1025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0B8B-0D43-4FE5-9E52-145D6C65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06B6-9B23-4B01-BA41-B3CB604C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381C-694F-4282-B5E0-BDA1A2C1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6C6B-E38A-48A9-A4E9-DA802C87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68F6-F889-414D-B0F8-7019E13F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D6FB-971E-4FA4-A684-9928A8CE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EC8-DEFE-4065-A751-E069CC07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B45-3BA3-4141-981B-FABCD569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E76-8ADF-42FE-9893-C2846F6B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886-13BA-4914-8BC4-C189E1C1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15D-0F6F-4063-8542-3AEAC853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153-9C8E-4C21-B10D-D9150F73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912-B3CE-4626-BD9C-269E1E8E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5352-132D-40CA-B255-4E2C8BF884E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22A7-5A59-4700-B0AD-A28B227987D1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“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Your game” 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the pseudo name of Sir Benjamin Hall? He was an architect, a member of the British Parliament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554160" y="533340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5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90752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Big Ben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28:0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